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CF2-AA86-4020-80A3-DBDD20EE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E14-4D79-46D4-8788-0C49A0D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130-B840-4A96-A74E-0D0CC061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581-EB32-4508-AC1D-CC842CA2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0F6-2A86-4F83-90D3-55437CD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D73-5812-4A63-B885-8B2F5EB3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34C-44D1-4D82-AD3B-54E9A1D5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F10-96F8-4DAF-BFE7-78F34995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D78-3029-4942-A056-2F9E795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881-497A-4FF3-B542-154A83A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AA1-EE11-4B02-996F-29FC067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5E4-8BDE-4CBD-8943-9935B9C3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61B4-5F56-4789-8365-4ADAB3565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how you do the Warm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write your name, date, period in the Upper Right hand corner of your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, write a heading on the top line of your page, in the middle with Period 1 Warm Up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look at the image, and the questions and then answer each question in 1-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le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ill be warm-ups ALMOST every cla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iod 1, WU #1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nstructed View of Cahok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3402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04920" y="5029200"/>
            <a:ext cx="8610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.  What does the presence of farms suggest about the inhabitants lifesty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How does the presence of farms change the general held stereotype of Native American life prior to the arrival of Europe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.  What does the location of the temple mound suggest about the role of religion in Cahokian lif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86400" y="1676520"/>
            <a:ext cx="33526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constructed view of Cahokia, the largest city in North America before the European arrival, painted by William R. Iseming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Cahokia Mounds Historical S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15:38Z</dcterms:created>
  <dc:creator>greenej</dc:creator>
  <dc:description/>
  <dc:language>en-US</dc:language>
  <cp:lastModifiedBy>Grace</cp:lastModifiedBy>
  <dcterms:modified xsi:type="dcterms:W3CDTF">2015-08-31T21:43:57Z</dcterms:modified>
  <cp:revision>2</cp:revision>
  <dc:subject/>
  <dc:title>Here is how you do the Warm Up</dc:title>
</cp:coreProperties>
</file>